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DAE0-3D96-4421-8C0E-BED20E290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03C8-CCE8-47AB-9E41-B0C5A7BF9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ED47-7BFC-4495-9290-C6F51E4BF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E2FC0-7DB9-4B84-B4F5-E7872C2CF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514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04851-B2C3-46DD-98FE-9B56F33DA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3724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7412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3724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7412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968E0-D7D7-47D6-8AB5-637A2941E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830592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EB2B2-1D67-40EF-9D1B-AC17F66FD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514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514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93724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7412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93724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7412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54418-EA86-4F51-BF36-2FC7051F2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1088-DD91-4F1D-B558-39BB893DB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3D7E-6B53-4385-B8B7-6E79D4D3A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830592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39532-FC51-4214-BF6D-6D5DCD123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ECC0D-7D02-4348-AD34-792005E05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514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16A7-846C-4EB5-A543-9E425F82E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8107-74CD-43E0-877F-9D29F9899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Round Single Corner Rectangle 6"/>
          <p:cNvSpPr/>
          <p:nvPr/>
        </p:nvSpPr>
        <p:spPr>
          <a:xfrm>
            <a:off x="0" y="6400800"/>
            <a:ext cx="8305920" cy="457200"/>
          </a:xfrm>
          <a:prstGeom prst="pie">
            <a:avLst/>
          </a:prstGeom>
          <a:solidFill>
            <a:srgbClr val="598428"/>
          </a:solidFill>
          <a:ln w="25560">
            <a:solidFill>
              <a:srgbClr val="598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0" y="1143000"/>
            <a:ext cx="830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FC02-CE67-4D16-8DB8-D65BCF5240EF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11"/>
          <p:cNvSpPr/>
          <p:nvPr/>
        </p:nvSpPr>
        <p:spPr>
          <a:xfrm>
            <a:off x="8250840" y="38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1" descr="1423905857_large.jpg"/>
          <p:cNvPicPr/>
          <p:nvPr/>
        </p:nvPicPr>
        <p:blipFill>
          <a:blip r:embed="rId3"/>
          <a:srcRect l="36372" t="40162" r="56069" b="11634"/>
          <a:stretch/>
        </p:blipFill>
        <p:spPr>
          <a:xfrm>
            <a:off x="8763120" y="2666880"/>
            <a:ext cx="380880" cy="312444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8250840" y="38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7" name="Round Single Corner Rectangle 6"/>
          <p:cNvSpPr/>
          <p:nvPr/>
        </p:nvSpPr>
        <p:spPr>
          <a:xfrm flipH="1">
            <a:off x="4876200" y="6324480"/>
            <a:ext cx="4267080" cy="533520"/>
          </a:xfrm>
          <a:prstGeom prst="pie">
            <a:avLst/>
          </a:prstGeom>
          <a:solidFill>
            <a:srgbClr val="598428"/>
          </a:solidFill>
          <a:ln w="25560">
            <a:solidFill>
              <a:srgbClr val="598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6934320" y="6400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REH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1447920" cy="1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1423905857_large.jpg"/>
          <p:cNvPicPr/>
          <p:nvPr/>
        </p:nvPicPr>
        <p:blipFill>
          <a:blip r:embed="rId4"/>
          <a:srcRect l="12127" t="39980" r="64650" b="11429"/>
          <a:stretch/>
        </p:blipFill>
        <p:spPr>
          <a:xfrm>
            <a:off x="0" y="1219320"/>
            <a:ext cx="1752480" cy="472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1423905857_large.jpg"/>
          <p:cNvPicPr/>
          <p:nvPr/>
        </p:nvPicPr>
        <p:blipFill>
          <a:blip r:embed="rId5"/>
          <a:srcRect l="32739" t="23199" r="0" b="63421"/>
          <a:stretch/>
        </p:blipFill>
        <p:spPr>
          <a:xfrm>
            <a:off x="6858000" y="304920"/>
            <a:ext cx="2193840" cy="5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1423905857_large.jpg"/>
          <p:cNvPicPr/>
          <p:nvPr/>
        </p:nvPicPr>
        <p:blipFill>
          <a:blip r:embed="rId6"/>
          <a:srcRect l="36372" t="40162" r="16667" b="11634"/>
          <a:stretch/>
        </p:blipFill>
        <p:spPr>
          <a:xfrm>
            <a:off x="6781680" y="2362320"/>
            <a:ext cx="2362320" cy="3124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24382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cel Tutorial 10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forming What-If Analy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One-Variable Data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the table (excluding any row or column headings). In the Data Tools group on the Data tab, click the What-If Analysis button, and then click Data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input values are in the first row, enter the cell reference to the input cell in the Row input cell box; if the input values are in the first column, enter the cell reference to the input cell in the Column input cell 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OK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FCC1-3F3C-401A-97D9-6E8F7B381FD9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One-Variable Data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2604-C38E-416F-A973-33A7387A26C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1625760"/>
            <a:ext cx="868680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Two-Variable Data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wo-variable data t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es two input cells, but unlike a one variable data table, only the value of a single result cell can be display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rt a formula that references the result cell in the upper-left cell of the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rt input values in the first row and first column of the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 the table (excluding any row or column heading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Data Tools group on the Data tab, click the What-If Analysis button, and then click Data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8CAA-1374-4DE7-ABF2-DB82B1B015CD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Two-Variable Data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cell reference corresponding to the input values in the first row in the Row input cell box; enter the cell reference to the input values in the first column in the Column input cell 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OK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C3A7-7DFB-4897-A837-E076FE750075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Two-Variable Data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E8B2-B80D-4A64-AE6E-53FEF44F7550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1817640"/>
            <a:ext cx="868680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Scenario Mana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enario Manag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s you to create as many scenarios as you want, easily switching between the different scenarios to display the results of several what-if analy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data values in the worksheet for the scen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Data Tools group on the Data tab, click the What-If Analysis button, and then click Scenario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DB6B-C34D-4131-A944-B8C6855154B8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Scenario Mana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he Add button in the Scenario Manager dialog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Scenario name box, type a name for the scen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hanging cells box, specify the input or changing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he OK 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Scenario Values dialog box, specify values for each of the input cells, clicking the Add button after 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he OK 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BD17-8FFF-484D-9F37-506C7813E16B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Scenario Mana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E4FE-1E4F-48F5-A3F0-C0D45C66713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66680" y="1811160"/>
            <a:ext cx="83534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Scenario Summary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cenario summary repor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s the values for the changing cells and result cells under each scen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Data Tools group on the Data tab, click the What-If Analysis button, and then click Scenario Mana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he Summary 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he Scenario summary option button to create a scenario summary report (or click the Scenario PivotTable report option to create a PivotTable describing the scenari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 the results cells to display in the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he OK 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74B5-D083-49B1-9BE9-B26A09E0F0AF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Scenario Summary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03F4-4CEB-4D93-956C-4EBF74067B5D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1473120"/>
            <a:ext cx="868680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e the principles of cost-volume-profit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 a basic what-if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Goal Seek to calculate a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one-variable data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two-variable data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d apply different Excel 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6619-8C78-428E-A224-2D9E478180D1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Scenario PivotTable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enario PivotTable rep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splays the results from each scenario as a pivo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eld in a Pivot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Data Tools group on the Data tab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-If Analy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utton, and then cli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enario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and then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enario PivotTable rep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ption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2667-3C66-4400-8949-34415BF2E9C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Scenario PivotTable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6819-409E-4926-B0F5-2082DB69C7F7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2176560"/>
            <a:ext cx="86868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standing Price Elasticity of Dem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C249-3241-41DE-8F99-E19BD4A33C80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1865160"/>
            <a:ext cx="86868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standing Price Elasticity of Dem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ffect that price has on demand is called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ice elasticity of de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vely inela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ectly inela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vely ela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ectly ela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it ela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4789-F4AD-4F3C-ABD5-D3F39FABA84B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an Optimal Solution Using Sol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lv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 program that searches for the optimal solution of a problem involving several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whether Solver is already installed and activated. If it is, Solver will appear in Analysis group on the Data t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Office Button, and then click the Excel Options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Add-Ins in the left pane, and then click the arrow next to the Manage box and click Excel Add-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Go button to open the Add-Ins dialog 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Solver Add-in check box, and then click the OK button. Follow the remaining prompts to install Solver, if it is not already inst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3E32-F75D-4D46-8539-80ADF7CFCA1D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Solver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Analysis group on the Data tab, click the Solver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Set Target Cell box, specify the targe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Max, Min, or Value of option buttons to maximize, minimize, or set the target cell to a specified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By Changing Cells input box, specify the changing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5959-8045-4391-A452-CA4BA7C50C94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Constraints on the Solver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Solver Parameters dialog box, click the Add 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 the cell reference of the cell or cells containing the constra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y the nature of the constraint (&lt;=, =, &gt;=, int, or b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 the constraint value in the Constraint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he OK button to add the constraint and return to the Solver dialog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for each constraint you want to a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A6B8-AB78-4BF6-AB51-69552609F5BA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Constraints on the Solver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1DA3-9898-4C60-8278-070C0D903C3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86868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ing and Loading a Solv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save a Solver mode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the Solver dialog 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Options button and then click the Save Model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the range to contain the parameters of the Solver model, and then click the OK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load a Solver mode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the Solver dialog 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Options button and then click the Load Model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the range within the current worksheet containing the Solver parameters, and then click the OK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6BC7-618E-4649-8FA5-ABF3574A63A8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ing and Loading a Solv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3FDC-01AB-4485-8B0D-3E878D636B22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0" y="1638360"/>
            <a:ext cx="86868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te a scenario summary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te a scenario PivotTabl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e the principles of price elast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 Solver to calculate optimal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d apply constraints to a Solver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ve and load a Solver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C64F-49D4-496D-9BC5-79678A9F195F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ing and Loading a Solv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8F88-7B94-4D6B-AFCE-94D153A807A4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1677960"/>
            <a:ext cx="868680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standing Cost-Volume-Profit Relationsh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st-volume-profit (CVP) analy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presses the relationship between a company’s expenses, its volume of business, and the resulting profit or net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ariable expens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in proportion to the amount of business a company do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xed expen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n expense that must be paid regardless of sales 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ariable expen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art variable and part fix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int where revenue equals expenses is called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eak-even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eak-even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58C5-24FB-4CC4-BD04-EF0351BF382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standing Cost-Volume-Profit Relationsh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7FCE-C868-4454-85CA-A3295BF7574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46120" y="1219320"/>
            <a:ext cx="759456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What-If Analysis and Goal S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perform what-if analys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the value of a worksheet cell (the input cel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serve its impact on one or more calculated cells (the result cel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perform Goal See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Data Tools group on the Data tab, click the What-If Analysis button, and then click Goal Se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Set cell box, select the result cell, and then, in the To value box, specify its value (go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By changing cell box, specify the input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OK button. The value of the input cell changes to set the value of the result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9FD3-CBC8-4798-B4CE-3D3A3E882316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What-If Analysis and Goal S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27FB-12B3-4FE4-AF7E-DA2CF1F850FA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795240" y="2728800"/>
            <a:ext cx="70963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What-If Analysis and Goal S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67A9-2F3F-4082-9274-0BBF4BC82D6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14200" y="1763640"/>
            <a:ext cx="82584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One-Variable Data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tab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s the results of several what-if analyses within a single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rt a formula that references the input cell in the upper-left cell of the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rt input values in either the first row or first column of the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input values in the first row, insert formulas referencing result cells in the table’s first column; for input values in the first column, insert formulas referencing result cells in the table’s first r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F1CF-A7AD-4783-8968-E8F4CFC3482D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21:35:42Z</dcterms:created>
  <dc:creator>Course Technology</dc:creator>
  <dc:description/>
  <dc:language>en-US</dc:language>
  <cp:lastModifiedBy>lrobbins</cp:lastModifiedBy>
  <dcterms:modified xsi:type="dcterms:W3CDTF">2007-08-13T15:25:08Z</dcterms:modified>
  <cp:revision>122</cp:revision>
  <dc:subject/>
  <dc:title>PowerPoint Presentation</dc:title>
</cp:coreProperties>
</file>